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96A-02B1-449F-9ADA-3A0560DC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4E9-3354-4553-B52E-620C869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E13-9E08-4EF3-AD5E-525C51DE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085-102D-472C-A145-B0665809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7C6-6962-4D8C-A240-36B4C390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113-4FCC-4269-A7EB-02BFEB3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E12-761B-4AF8-866E-78B9F94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E24-8D12-483C-8727-A1E3B6D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195-E032-48CB-A9D6-FD8653E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7DC-8C48-4270-92BA-E006500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1DB-19D0-40DB-A6E3-5BB5DF6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8EF-7C83-46E8-9D03-57AC8C8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6415-D2A7-40B9-B41E-69D04C22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pratique le soccer depuis que j’ai environ dix ans. C’est mon sport préféré parce que j’aime être active et me dépasser physiqu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tique de manière ludique ou compétiti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davantage de façon ludique, pour m’amuser avec mes amies. Toutefois, à l’âge de vingt ans, j’ai eu la chance de faire partie d’une équipe pour une sai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0:08Z</dcterms:modified>
  <cp:revision>7</cp:revision>
  <dc:subject/>
  <dc:title>Le chien</dc:title>
</cp:coreProperties>
</file>